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A260-1AA9-4CDA-A380-ECD34BE8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C942-437A-4CCF-BD15-3E5657E8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401B-F89F-4A9C-B71E-F3DECD5F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3415-8AA3-492D-93C8-A048CCDD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5AB2-BAE2-44B8-A4E2-3D3DBA93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9CE5-3D7A-46B9-AD37-33AFD552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3DE6-9D77-4237-A4CD-BFA2EDC3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0A60-D8CB-45CB-9B78-76848D36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68C9-96DA-48A8-B283-CCDC1502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CB16-25D0-4BED-8923-0F91321C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975B-03CE-43CF-9ABD-D652C5F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F7C5-056D-45AC-B190-1D01B1F2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23A6-A876-48E5-B863-36AC3535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2437-CD76-4271-BE7B-2BBAAEAD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04D4-789A-4E10-B884-29D38C24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7798-2236-47E8-8826-EAF90C1F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3D7E-23B6-4BF0-A4A0-4CB64CDB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5665-F19F-41CC-B868-D5512AF5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386E-E5FC-45FA-B923-742D0ABF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F3B9-4C93-4D0D-8614-CA0C6A16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EBE5-D12E-4B2A-8927-2DA9F81F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C9E9-A1FC-41E2-8C53-132F128D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A2A0-B628-4077-9C1A-0F6A99ED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3810-92A1-470B-930C-0931625F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C026-BDFD-4FB1-A15A-F1DB5E568A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EAB4-41DF-4D72-BBEE-F00EC46AD1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9;&#1077;&#1084;&#1080;&#1088;&#1085;&#1072;&#1103;_&#1087;&#1072;&#1091;&#1090;&#1080;&#1085;&#1072;" TargetMode="External"/><Relationship Id="rId2" Type="http://schemas.openxmlformats.org/officeDocument/2006/relationships/hyperlink" Target="http://ru.wikipedia.org/wiki/&#1048;&#1085;&#1092;&#1086;&#1088;&#1084;&#1072;&#1094;&#1080;&#1103;" TargetMode="External"/><Relationship Id="rId3" Type="http://schemas.openxmlformats.org/officeDocument/2006/relationships/hyperlink" Target="http://ru.wikipedia.org/wiki/&#1063;&#1072;&#1090;" TargetMode="External"/><Relationship Id="rId4" Type="http://schemas.openxmlformats.org/officeDocument/2006/relationships/hyperlink" Target="http://ru.wikipedia.org/wiki/&#1042;&#1077;&#1073;-&#1092;&#1086;&#1088;&#1091;&#1084;" TargetMode="External"/><Relationship Id="rId5" Type="http://schemas.openxmlformats.org/officeDocument/2006/relationships/hyperlink" Target="http://ru.wikipedia.org/wiki/&#1048;&#1075;&#1088;&#1086;&#1074;&#1072;&#1103;_&#1079;&#1072;&#1074;&#1080;&#1089;&#1080;&#1084;&#1086;&#1089;&#1090;&#1100;" TargetMode="External"/><Relationship Id="rId6" Type="http://schemas.openxmlformats.org/officeDocument/2006/relationships/hyperlink" Target="http://ru.wikipedia.org/wiki/MMOG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8928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Garamond"/>
              </a:rPr>
              <a:t>Центр психолого-медико-социального сопровождения </a:t>
            </a: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Garamond"/>
              </a:rPr>
              <a:t>«Радуга» </a:t>
            </a: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Garamond"/>
              </a:rPr>
              <a:t>в рамках реализации </a:t>
            </a: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Garamond"/>
              </a:rPr>
              <a:t>профилактической программы в образовательной среде</a:t>
            </a: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Garamond"/>
              </a:rPr>
              <a:t>«Будущее начинается сегодня»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уководитель программы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Малькова Елена Анатольевна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зам. директора ЦПМСС «Радуга»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кандидат     психологических наук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пециалист по организации профилактической работы, куратор волонтерского движения 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Голубихина Юлия Евгеньевна, педагог-психолог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высшей квалификационной категории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ПМСС «Радуга»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pmss_raduga@mail.r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акторы влечения к Интернету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оступность, скорость получения  информации, интерактивных зон и порнографических изображени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ерсональный контроль и анонимность передаваемой информац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нутренние чувства, которые на подсознательном уровне устанавливают больший уровень доверия к общению в он – лайн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5e5ff"/>
                </a:solidFill>
                <a:latin typeface="Garamond"/>
              </a:rPr>
              <a:t>Тест определения степени зависимости от Интернета.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9325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увствуете ли Вы себя озабоченным Интернетом (думаете ли Вы о предыдущих он - лайн сеансах и предвкушаете ли последующи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щущаете ли Вы потребность в увеличении времени, проведенного в Сет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ыли ли у Вас безуспешные попытки контролировать, ограничить или прекратить использование Интернет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увствуете ли Вы себя усталым, угнетенным или раздраженным при попытках ограничить или прекратить пользование Интернетом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ходитесь ли Вы в он – лайн больше, чем предполагал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ыли ли у Вас случаи, когда Вы рисковали получить проблемы в работе, учебе или в личной жизни из – за Интернет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лучалось ли Вам лгать членам семьи, врачам или другим людям ,чтобы скрыть время пребывания в Сет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пользуете ли Вы Интернет для того, чтобы уйти от проблем или от дурного настроения (например, от чувства беспомощности, виновности, раздраженности или депрессии)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следствия интернет – зависимост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ы с учеб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мейные проблемы (конфликты детско – родительских отношений, проблемы брака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рушения дружеских отнош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инансовые проблем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ы связанные с работ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изический вред здоровь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ути преодоления проблем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сознание наличия или опасности заболевани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обретение другой «зависимости» - здоровый образ жизни, творчество, увлечени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щаться с людьми в офф – лайне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олезная информация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http://icensor.ru/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pmss_raduga@mail.r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37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95092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5e5ff"/>
                </a:solidFill>
                <a:latin typeface="Garamond"/>
              </a:rPr>
              <a:t>Интернет - зависимость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916360" y="4005360"/>
            <a:ext cx="3671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4800" spc="-1" strike="noStrike">
                <a:solidFill>
                  <a:srgbClr val="0099cc"/>
                </a:solidFill>
                <a:latin typeface="Garamond"/>
              </a:rPr>
              <a:t>Зависимость (аддикция)</a:t>
            </a:r>
            <a:r>
              <a:rPr b="0" lang="ru-RU" sz="32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0099cc"/>
                </a:solidFill>
                <a:latin typeface="Garamond"/>
              </a:rPr>
              <a:t>–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в психологии определяется как навязчивая потребность, ощущаемая человеком, подвигающая к определенной деятельност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372360" y="4941720"/>
            <a:ext cx="2447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История вопрос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995 год – Иван Голдберг выделил основные симптомы данного расстройств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спользование интернета вызывает болезненное стрессовое состояние или дистресс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спользование интернета причиняет ущерб физическому, психологическому, межличностному, экономическому или социальному статус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1996 год психиатр Кимберли Янг разработала и опубликовала тест – опросник, направленный на выявление интернет - зависимости. Большинство ответивших были признаны, согласно выбранному критерию, интернет – зависимыми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1997 – 1998 гг. созданы исследовательские и консультативно – диагностические службы по данной проблематике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1998 – 1999гг. вышли первые монографии по проблеме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В России данный феномен изучается в основном психологами. Интерес представляют работы психиатра Виталины Лоскутовой (Буровой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По неофициальным данным считают, что сейчас в нашей стране интернет – зависимыми являются около 10% пользова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Несмотря на отсутствие официального признания проблемы, интернет – зависимость принимается в расчет во многих странах мира, в том числе и в Росс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5 типов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нтернет – зависимост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вязчивый веб-серфинг — бесконечные путешествия по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Всемирной паути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поиск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информа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страстие к виртуальному общению и виртуальным знакомствам — большие объёмы переписки, постоянное участие в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чатах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веб-форумах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избыточность знакомых и друзей в Се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Игровая зависимость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навязчивое увлечение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компьютерными играми по се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вязчивая финансовая потребность — игра по сети в азартные игры, ненужные покупки в интернет-магазинах или постоянные участия в интернет-аукцион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иберсексуальная зависимость — навязчивое влечение к посещению порносайтов и занятию киберсекс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етевые услуги по частоте интернет – зависимост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</a:rPr>
              <a:t>чаты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– 37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</a:rPr>
              <a:t>многопользовательские игры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– 28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</a:rPr>
              <a:t>телеконференции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 сети – 15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</a:rPr>
              <a:t>электронная почта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– 13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</a:rPr>
              <a:t>сайты Всемирной паутины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– 7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ные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</a:rPr>
              <a:t>сетевые протоколы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</a:rPr>
              <a:t>(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ftp, gopher,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</a:rPr>
              <a:t>Википедия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 пр.) – 2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лавенствующий фактор – анонимность личности в Сет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онимность увязана с четырьмя главными расстройствам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силение различных отклонений от нормы, ложь и совершение криминальных действ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иртуальный мир, в котором человек чувствует себя комфортней, чем в реальной жиз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ы внутрисемейных отношен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зможность создания альтернативных он – лайн персонаж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08:05Z</dcterms:created>
  <dc:creator>www.PHILka.RU</dc:creator>
  <dc:description/>
  <dc:language>en-US</dc:language>
  <cp:lastModifiedBy>Пользователь</cp:lastModifiedBy>
  <dcterms:modified xsi:type="dcterms:W3CDTF">2012-01-16T12:05:45Z</dcterms:modified>
  <cp:revision>16</cp:revision>
  <dc:subject/>
  <dc:title>Видеоролик</dc:title>
</cp:coreProperties>
</file>